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5C0-7C59-4B30-9008-45E4EC71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723-720A-47F7-A70B-622B98AD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8CE-7951-46C1-9258-03F87331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C22-023D-4FFE-81F7-35988F66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3A80-DAAF-4BAA-ADF8-9C306770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2771-EA25-419B-B715-3E6DF57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185F-9D59-416C-B626-234FCAEA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261E-4AFD-486B-9852-F0910C38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68B0-9D5F-44F0-AF7F-B456B684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127B-0326-4997-8E4C-09259279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EBB7-9D0D-4983-89C8-CE620F7E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E48-EE4B-43E0-A456-F5F0B793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1A33-E010-4488-8674-07CCA593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386A-FB31-47A5-BBF7-25E6A508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968F-7321-4BB0-B7D5-DA48855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B427-C0FC-4048-95A9-4633D95D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17A0-F1DB-4C18-BA4E-8E974F0F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9E8-AC64-46BA-95D9-5670F4F0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A94-0948-4716-9E5E-8B2323BE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C82-AAC2-4008-A1CE-ACA4A54E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F68-99B3-41E1-9A72-2042511E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1E4-3CA9-4E08-8A26-45DD930E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4D5-F895-4050-BEF3-3DDF1545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593-FF5B-4203-AC85-1042209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1AC0-508B-4DB9-AC8B-2C75C6E13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1E0-BD3D-4FB3-BA29-CD3D76CD444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Cell Theory – a timel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te 1500’s: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first lenses used in Euro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used to determine cloth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ality (weave and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cis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combos of lenses gave bette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rly 1600’s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euwenhoek use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 to study na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4  A prokaryotic cell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320" y="577800"/>
            <a:ext cx="89154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Times New Roman"/>
              </a:rPr>
              <a:t>Basic Cell Structu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Rockwell Extra Bold"/>
              </a:rPr>
              <a:t>Cell membra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thin, flexible barrier around c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Rockwell Extra Bold"/>
              </a:rPr>
              <a:t>Nucle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large, centralized structure that contains genetic material and controls cellular activ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Rockwell Extra Bold"/>
              </a:rPr>
              <a:t>Cytoplas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material inside membrane (but not inside the nucleus) that supports the internal cell shape and organel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asic cell parts: cell membrane and  cytoplasm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howcard Gothic"/>
              </a:rPr>
              <a:t>Cell membran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provides barrier between internal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external environment of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emi-permeabl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some th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go in, some cannot;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things can exit, som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ver ca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made up of phospholipid bilayer with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teins embedded that allow fo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eded passage of larg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lec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jor job of cell membrane is to maintain the cell’s environment – establish homeostas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luid Mosaic Mod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ll membrane and embedded proteins are not locked into position – they flow against one another as the cytoplasm and the external liquid environment dictate (so, is flui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are MANY different components of the cell membrane – it is a mosaic of many pa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8.6  The detailed structure of an animal cell’s plasma membrane, in cross section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ucle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st organel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closed by nuclear envelope or membrane, which is a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doubl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mbrane – each of which is a lipid bilayer!!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uclear membrane has pores in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ains inactive DNA – chromat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gets ready to divide, chromatin condenses into chromoso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rects protein synthesis by synthesizing mRNA and sending to ribosomes in the cytoplas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ytopla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tire region between the nucleus and the cell membra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emifluid substance that fills this area is called </a:t>
            </a:r>
            <a:r>
              <a:rPr b="0" lang="en-US" sz="3200" spc="-1" strike="noStrike">
                <a:solidFill>
                  <a:srgbClr val="ff0000"/>
                </a:solidFill>
                <a:latin typeface="Showcard Gothic"/>
              </a:rPr>
              <a:t>CYTOSO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and this is what the organelles are suspended 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nd in </a:t>
            </a:r>
            <a:r>
              <a:rPr b="0" lang="en-US" sz="3200" spc="-1" strike="noStrike">
                <a:solidFill>
                  <a:srgbClr val="ff33cc"/>
                </a:solidFill>
                <a:latin typeface="Showcard Gothic"/>
              </a:rPr>
              <a:t>plant cel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another barrier in ADDITION to the cell membra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cts the c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ves support to c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polysaccharide called cellulo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very porous and allows molecules to pass through, but is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OT SELECTIVELY PERME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rganel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Showcard Gothic"/>
              </a:rPr>
              <a:t>Control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Nucleu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Showcard Gothic"/>
              </a:rPr>
              <a:t>Assembly, Transport, and Storag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Endoplasmic reticulum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Ribosome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Golgi apparatu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Vacuole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Lysosome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howcard Gothic"/>
              </a:rPr>
              <a:t>Energy transforma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*Chloroplasts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(plant only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*mitochondria 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0c0c0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09480" y="5335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0011"/>
                </a:solidFill>
                <a:latin typeface="Times New Roman"/>
              </a:rPr>
              <a:t>Early 1600’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7920" y="1828800"/>
            <a:ext cx="4038480" cy="452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Leeuwenhoek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first to view pond water organism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First to see living microscopic org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Made careful sketch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2" descr="leeuwenhoek2"/>
          <p:cNvPicPr/>
          <p:nvPr/>
        </p:nvPicPr>
        <p:blipFill>
          <a:blip r:embed="rId1"/>
          <a:stretch/>
        </p:blipFill>
        <p:spPr>
          <a:xfrm>
            <a:off x="419040" y="1828800"/>
            <a:ext cx="358956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arly 1600’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Endoplasmic reticulum –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highway system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VE – accounts for more than half the total membrane system in eukaryotic ce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me means “little net within the cytoplas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ooth and rough e.r. are actually connected, not distinct, separate se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ob is to transport materials quickly from one place to another in c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ooth e.r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s in synthesis of lipids, metabolism of carbs, detoxification of drugs and pois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Lipids – oils, phospholipids, stero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sex hormones and adrenal hormon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Liver cells – glycogen; gets converted to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ucose phosphate which cannot leav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ll, so e.r. makes enzyme that conver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to gluc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Detox – liver; adds hydroxyl groups to drugs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s them soluble and able to b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lushed out of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ough e.r.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s secretory prote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ex. Insulin made by pancreatic cell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are glycoproteins (proteins covalently bound to carb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ugh e.r. is also a membrane factory – grows by adding proteins and phospholipids; parts can be taken from here and added to other membrane systems using the vesicles for transpo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Ribosom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protein factorie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tes of protein 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made of rRNA and prote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lls with high rates of protein synthesis have MANY ribosomes (human pancreas cell has MILLIONS of ribosom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“free” ribosomes in cytosol that make proteins for the cell that they are INSIDE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bosomes that are attached to endoplasmic reticulum (bound) are making proteins for packaging and export OUTSIDE OF CEL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Golgi apparatu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Gift wrapper/UPS system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ishes, sorts, ships cell produc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Golgi will modify products as needed – gives more variety by removing some monomers and substituting othe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Vacuol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Bank Vaults” or “trash can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tes of storage in cel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*good things stored – water, mineral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od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*bad things stored – broken down ce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rts, was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Lysosom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suicide bag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mbrane-bounded sac of hydrolytic enzy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fferent lysosomes break down each of the major classes of macromolecules – proteins, polysaccharides, fats, nucleic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rk best at pH of 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d in autophagy – recycle the cell’s own organic material for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457200" y="25236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Arial"/>
              </a:rPr>
              <a:t>Robert Hooke ( 16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Picture 7" descr="hooke"/>
          <p:cNvPicPr/>
          <p:nvPr/>
        </p:nvPicPr>
        <p:blipFill>
          <a:blip r:embed="rId1"/>
          <a:stretch/>
        </p:blipFill>
        <p:spPr>
          <a:xfrm>
            <a:off x="685800" y="1577880"/>
            <a:ext cx="2495520" cy="2133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648320" y="1577880"/>
            <a:ext cx="4038480" cy="452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Arial"/>
              </a:rPr>
              <a:t>Used light microscope to look at thin slices of plant tissues -- cork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Arial"/>
              </a:rPr>
              <a:t>Looked empty, like monk’s cha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Arial"/>
              </a:rPr>
              <a:t>Called tiny chambers “cells”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3" descr="hooke 2"/>
          <p:cNvPicPr/>
          <p:nvPr/>
        </p:nvPicPr>
        <p:blipFill>
          <a:blip r:embed="rId2"/>
          <a:stretch/>
        </p:blipFill>
        <p:spPr>
          <a:xfrm>
            <a:off x="457200" y="3863880"/>
            <a:ext cx="35053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1"/>
          <p:cNvGrpSpPr/>
          <p:nvPr/>
        </p:nvGrpSpPr>
        <p:grpSpPr>
          <a:xfrm>
            <a:off x="0" y="6103800"/>
            <a:ext cx="18288000" cy="360"/>
            <a:chOff x="0" y="6103800"/>
            <a:chExt cx="18288000" cy="360"/>
          </a:xfrm>
        </p:grpSpPr>
        <p:sp>
          <p:nvSpPr>
            <p:cNvPr id="111" name="Rectangle 13"/>
            <p:cNvSpPr/>
            <p:nvPr/>
          </p:nvSpPr>
          <p:spPr>
            <a:xfrm>
              <a:off x="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914400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Rectangle 15"/>
            <p:cNvSpPr/>
            <p:nvPr/>
          </p:nvSpPr>
          <p:spPr>
            <a:xfrm>
              <a:off x="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914400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>
              <a:off x="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914400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914400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Mitochondria and Chloroplas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powerhouses”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tochondria – carry on cellular respiration – sites of energy production in cell (glucose broken down to produce AT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loroplasts – carry on photosynthes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tes where sunlight, CO2 and water ar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verted into gluco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7  The mitochondrion, site of cellular respiration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76280" y="380880"/>
            <a:ext cx="819144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8  The chloroplast, site of photosynthesis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rcRect l="0" t="0" r="1710" b="0"/>
          <a:stretch/>
        </p:blipFill>
        <p:spPr>
          <a:xfrm>
            <a:off x="190440" y="1219320"/>
            <a:ext cx="8763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Cytoskeleton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hay in mud makes brick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twork of fibers extending into cytoplasm of c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s structural support, and aids in cell motility and cell reg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up of microtubules (thickest), microtubules (thinnest), and intermediate filament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Cilia and Flagella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hairs and tail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ilia are short projections from cell body – hair-lik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agella are much longer – whip-lik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vement may not be for entire organism; may be part of a larger unit – ex. Cilia lining windpipe propel foreign substances out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elles do not work alone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ll is a dynamic interaction of ALL of its parts – literally, the basic unit of life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0c0c0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0011"/>
                </a:solidFill>
                <a:latin typeface="Times New Roman"/>
                <a:ea typeface="Arial"/>
              </a:rPr>
              <a:t>Matthias Schleiden 18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7200" y="1692360"/>
            <a:ext cx="4038480" cy="4525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German Botanist (plan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All plants looked at were made of cells, so conclude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Rockwell Extra Bold"/>
                <a:ea typeface="Arial"/>
              </a:rPr>
              <a:t>“</a:t>
            </a:r>
            <a:r>
              <a:rPr b="0" lang="en-US" sz="3200" spc="-1" strike="noStrike">
                <a:solidFill>
                  <a:srgbClr val="220011"/>
                </a:solidFill>
                <a:latin typeface="Rockwell Extra Bold"/>
                <a:ea typeface="Arial"/>
              </a:rPr>
              <a:t>All plants are made of cells.”</a:t>
            </a:r>
            <a:r>
              <a:rPr b="0" lang="en-US" sz="4400" spc="-1" strike="noStrike">
                <a:solidFill>
                  <a:srgbClr val="ffffcc"/>
                </a:solidFill>
                <a:latin typeface="Rockwell Extra Bold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2" descr="Matthias Schleiden"/>
          <p:cNvPicPr/>
          <p:nvPr/>
        </p:nvPicPr>
        <p:blipFill>
          <a:blip r:embed="rId1"/>
          <a:stretch/>
        </p:blipFill>
        <p:spPr>
          <a:xfrm>
            <a:off x="4419720" y="169236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380880" y="404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0011"/>
                </a:solidFill>
                <a:latin typeface="Times New Roman"/>
                <a:ea typeface="Arial"/>
              </a:rPr>
              <a:t>Theodore Schwann -- 18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80880" y="1600200"/>
            <a:ext cx="40388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600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002b"/>
                </a:solidFill>
                <a:latin typeface="Times New Roman"/>
                <a:ea typeface="Arial"/>
              </a:rPr>
              <a:t>German scientist who studied animals -- zoologis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Times New Roman"/>
                <a:ea typeface="Arial"/>
              </a:rPr>
              <a:t>Saw that all animals he studied were cellular so conclude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Rockwell Extra Bold"/>
                <a:ea typeface="Arial"/>
              </a:rPr>
              <a:t>“</a:t>
            </a:r>
            <a:r>
              <a:rPr b="0" lang="en-US" sz="2800" spc="-1" strike="noStrike">
                <a:solidFill>
                  <a:srgbClr val="220011"/>
                </a:solidFill>
                <a:latin typeface="Rockwell Extra Bold"/>
                <a:ea typeface="Arial"/>
              </a:rPr>
              <a:t>All animals are made of cells.”</a:t>
            </a:r>
            <a:r>
              <a:rPr b="0" lang="en-US" sz="2800" spc="-1" strike="noStrike">
                <a:solidFill>
                  <a:srgbClr val="ffffcc"/>
                </a:solidFill>
                <a:latin typeface="Rockwell Extra Bold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2" descr="schwann"/>
          <p:cNvPicPr/>
          <p:nvPr/>
        </p:nvPicPr>
        <p:blipFill>
          <a:blip r:embed="rId2"/>
          <a:stretch/>
        </p:blipFill>
        <p:spPr>
          <a:xfrm>
            <a:off x="4495680" y="1501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57200" y="2905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  <a:ea typeface="Arial"/>
              </a:rPr>
              <a:t>Rudolf Virchow -- 185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7200" y="1311120"/>
            <a:ext cx="4038480" cy="5257800"/>
          </a:xfrm>
          <a:prstGeom prst="rect">
            <a:avLst/>
          </a:prstGeom>
          <a:solidFill>
            <a:srgbClr val="56002b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German physician who studied cell reprod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ockwell Extra Bold"/>
                <a:ea typeface="Arial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Rockwell Extra Bold"/>
                <a:ea typeface="Arial"/>
              </a:rPr>
              <a:t>Where a cell exists, there must have been a preexisting cell….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2" descr="virchow02"/>
          <p:cNvPicPr/>
          <p:nvPr/>
        </p:nvPicPr>
        <p:blipFill>
          <a:blip r:embed="rId2"/>
          <a:stretch/>
        </p:blipFill>
        <p:spPr>
          <a:xfrm>
            <a:off x="4968720" y="1616040"/>
            <a:ext cx="339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Theory was form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a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explanation of natural phenomenon based on many observations and investigations over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ories are sometimes abandoned based on new evid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Arial"/>
              </a:rPr>
              <a:t>The Cell Theory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Arial"/>
              </a:rPr>
              <a:t>All living things are composed of cell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Arial"/>
              </a:rPr>
              <a:t>Cells are the basic units of structure and function in living thing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Arial"/>
              </a:rPr>
              <a:t>New cells are produced from existing cell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karyotes vs. Eukaryo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Showcard Gothic"/>
              </a:rPr>
              <a:t>Prokaryotes: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NUCLEU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Small and Simple – few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el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Have cell membrane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cytoplas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. Bacteri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Showcard Gothic"/>
              </a:rPr>
              <a:t>Eukaryotes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Contain nucle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Contains organelles tha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form specialized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Uni-or multicellula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2:16:45Z</dcterms:created>
  <dc:creator>Pamela B. Perry</dc:creator>
  <dc:description/>
  <dc:language>en-US</dc:language>
  <cp:lastModifiedBy>Ryan Edel</cp:lastModifiedBy>
  <dcterms:modified xsi:type="dcterms:W3CDTF">2011-09-26T13:26:37Z</dcterms:modified>
  <cp:revision>9</cp:revision>
  <dc:subject/>
  <dc:title>The Cell Theory – a timeline</dc:title>
</cp:coreProperties>
</file>